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6079-8067-44CF-BCD9-2AB02F31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7880-BE03-4A29-879B-F71D1591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1E3D-ADB2-4874-BCE3-58E2762F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D76D-BA30-4A4C-8CC5-690DDA33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5F10-1138-4236-8BEB-465B94F6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2599-2757-42E1-B3F7-80D90FB2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7B95-D880-45C1-BFED-735BAD2D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B16F-2996-4EE3-BCC6-8AE9F5B8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D260-7970-450C-923B-28401525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7165-160D-4191-80DB-0331127E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4263-33B1-4A05-AC26-DD317E5D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2508-F3D9-4628-B296-13B4C122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6599-0D6A-4909-B483-D10713514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avedarfur.org/pages/voices-for-darfur-video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untrivia.com/playquiz/quiz2560151d4fc10.html" TargetMode="External"/><Relationship Id="rId2" Type="http://schemas.openxmlformats.org/officeDocument/2006/relationships/hyperlink" Target="http://www.genocideintervention.net/" TargetMode="External"/><Relationship Id="rId3" Type="http://schemas.openxmlformats.org/officeDocument/2006/relationships/hyperlink" Target="http://www.24hoursfordarfur.org/main.php" TargetMode="External"/><Relationship Id="rId4" Type="http://schemas.openxmlformats.org/officeDocument/2006/relationships/hyperlink" Target="http://www.thewe.cc/contents/more/archive/darfur_sudan.html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cide in Darf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Keeghan Pierce and Rikkie Clee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ince Sudan’s independence in the 1950’s, there have been numerous insurgencies against the central gover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 southern Sudan, the government and the Sudan People’s Liberation Movement signed a Comprehensive Peace Agreement to end a twenty-year-old civil war on January 9, 2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eriodic tensions between the black African tribes and the Arabs settled in the area can be traced back to the 1930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uring the current violence, a United Nations fact-finding mission discovered that many ethnically African villages had been targeted for destruction, while nearby Arabic villages remained unscat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se facts demonstrate that both the victims and the perpetrators subjectively viewed the black African tribes as a distinct group, further affirming their group status under the Genocide Conven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cause of all the genocide in Darfur the area as a whole canstantly lives in fear of if they will live or die that day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the people are going throug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in Darfur are being rapped and be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Children are being used as labor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 are also being used as labor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Over the past six years, over 400,000 Darfurian civilians have been kill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97% of these killings have been against innocent civilians and executed by militia groups instructed by the gover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66520" y="0"/>
            <a:ext cx="3048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91336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ap shows were the trouble regions are in the country of Sud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8991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vedarfur.org/pages/voices-for-darfur-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Darfur_02.jpg Genocide image by checkmate388"/>
          <p:cNvPicPr/>
          <p:nvPr/>
        </p:nvPicPr>
        <p:blipFill>
          <a:blip r:embed="rId2"/>
          <a:stretch/>
        </p:blipFill>
        <p:spPr>
          <a:xfrm>
            <a:off x="4495680" y="2743200"/>
            <a:ext cx="39816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you can d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ways you can help the ca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o small things like making small do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igger things like visiting Darfur and helping the people in the refugee cam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e you can find more inf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uch do you know?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untrivia.com/playquiz/quiz2560151d4fc10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Quiz 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re you can go to help!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enocideintervention.ne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what you ca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24hoursfordarfur.org/main.php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thewe.cc/contents/more/archive/darfur_sudan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s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genocideintervention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genocideintervention.net/educate/darf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4hoursfordarfur.org/main.php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en.wikipedia.org/wiki/War_in_Darfur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google.com/imgres?imgurl=http://darfursf.org/content/wp-content/uploads/2009/05/Darfur_map-278x300.png&amp;imgrefurl=http://darfursf.org/content/about/&amp;usg=__oBwWFnAawTOcTLU2QhqJ3sqrFfY=&amp;h=300&amp;w=278&amp;sz=111&amp;hl=en&amp;start=14&amp;um=1&amp;itbs=1&amp;tbnid=FLDs7YzJJytSvM:&amp;tbnh=116&amp;tbnw=107&amp;prev=/images%3Fq%3Dmap%2Bof%2Bdarfur%2Bsudan%2Band%2Bgenocide%26um%3D1%26hl%3Den%26safe%3Dstrict%26sa%3DG%26rlz%3D1T4GGLJ_enUS287US295%26tbs%3Disch:1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amnestyusa.org/darfur/darfur-history/page.do?id=135110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thewe.cc/contents/more/archive/darfur_sudan.htm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dosomething.org/tipsandtools/11-facts-about-darf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5:39:42Z</dcterms:created>
  <dc:creator>ws12067</dc:creator>
  <dc:description/>
  <dc:language>en-US</dc:language>
  <cp:lastModifiedBy>ws12067</cp:lastModifiedBy>
  <dcterms:modified xsi:type="dcterms:W3CDTF">2010-05-21T14:34:48Z</dcterms:modified>
  <cp:revision>3</cp:revision>
  <dc:subject/>
  <dc:title>Genocide in Darfur</dc:title>
</cp:coreProperties>
</file>